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B47-47DA-4827-81DC-D52C0C0C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A13-4B76-4267-9946-FD9F40E7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A1022-00E9-45A9-929B-C4CAE55F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D5C77-B29F-44E0-B559-A8C39379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8EE2B-399F-44D2-AF1E-38C7B9B8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4A49F-A08F-479E-92D6-C33014F4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03B38-DA0A-4AE7-9FB6-001FC52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F2F4B-1F53-4259-87D1-DDE4984F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FD08E-4606-42A1-A04E-569945A2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CC738-37F7-4EF1-8607-35E92ECB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60F1D-282D-43A1-9DF8-A45F193B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718A9-2B64-4A27-BA5A-57B39E62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E60-977F-4FCA-A701-390A8D2A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6C084-8B80-49A4-BAB1-30EBAD15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E7EA8-96EC-47E9-84A9-C83654EA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22A80-A52B-4EBC-B389-BF44C879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E189B-4A0C-489C-8739-3B386CDD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398DD-0AA9-4E4E-83A0-05578C48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4397B-B5CC-44FF-BD57-42D203D3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F0C4A-C1D5-4766-BD8D-EDDD7246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B353A-6635-48C5-B821-D91ABB80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2EDC2-C622-4F1B-A503-1B390B93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C0418-5CDF-4651-A511-632F8BAA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229-430F-40C6-BA0A-BD205DF2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E8CA4-EDB2-4E4D-8045-4A61892C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B0CE1-EA0E-4D35-BEC6-CA059C57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9190B-B2DB-4894-83B0-4FB8CF6B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E1D61-38D5-4F54-A4AA-4D8B2EF8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0A185-DE5C-4ED7-A6CB-B83FFCBD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F81CC-8244-4671-AD67-F798CFE0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3AD92-94B5-405C-99CE-085FCBFC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B03C2-4DD7-41B7-AA38-AD5EEAF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48759-E368-4FB4-A146-88AC6CA7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26C04-5B3C-4FD7-91B9-84127EE8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9B90-E5BD-4B5B-A57E-B19321D2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B9250-58EB-45A9-97FE-9DDB7412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35989-3337-4A87-839F-B5493B9A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2DB0F-BE74-4270-8DD1-AA37E64A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61785-6C05-4BC8-892F-FFA60AA1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F0FAE-2D6B-4571-A3F6-773F62CF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DC7C9-E055-4E8B-82B4-7CC45AD7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CE9E6-76CE-4669-964C-F53C984D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8964B-01E8-4D46-B86D-31A1353E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EFE53-0181-4CF2-9A35-A8DD84AE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AA24D-B80E-4F87-ACBD-0D6A999D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207C-5A1F-4834-A282-7D6D8FE4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D9649-75FF-4F08-A50A-4F4BBCFB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A9A46-4547-407E-A806-A692C193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CBBC0-E7BE-4079-A8DE-27F9E73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968CE5-E6E0-46C4-AF05-5589FB20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AC45C-E8CE-4051-AF61-DFFA65F7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66E68-2BEA-4EA1-B32D-DB1F464D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86558-ADAF-471B-B5A8-737A3E38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56802-AC81-4B21-8E0F-D4C564AF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5E21B-8013-402B-AE08-8352F17F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7435F-8810-46D6-BDAE-09745582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817D-2D21-4E19-8E1D-696ACF0B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9D978-6CFD-4D78-815F-F324BFA6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98EA8-417E-4A39-A725-BC4887F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06B90-E87F-4B48-B0E8-A3E75F3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C69C1-FF85-4933-AF97-6A0CDF25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FEC80-3DEE-44FB-B226-22E2785C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0262B-BB95-4DA3-AF0E-C02B67C4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31672-AE52-49C7-97D3-7CDB26C3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0D6F5-91EE-4D95-8A99-7DD6079C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27775-C9B4-46D4-950D-4420BA58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0182DF-0C31-4502-99B8-A8190CE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1700-0FDB-4517-9CB4-CAF0176B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4021A-78A9-4EEB-BAAB-3A1FA65C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3035B-4D81-473C-84D7-D0E4954D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F14FB0-2163-4534-83F8-7E756411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9C7EB-180E-4B47-8D17-1094D554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73560-1DA8-44F2-866F-5FCA85AE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89D3C-49A3-4CBD-A030-163CE30C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E9913-D57A-42E7-90D0-3D6D4E36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5DE414-0647-4D99-BD91-4865D7D2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7363D-E279-4BBF-8371-043EB687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E46F4-E405-4EF3-8302-FD9C4D95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D3ED-18AF-422D-9F19-720CF13C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FAAFA-14FD-4145-B466-92320991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CEFDD-61E1-453C-AF07-E16AA1DE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3815D-FAC6-4F9A-8E9A-45CD994F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111FD-2A13-42EE-A916-2BFE1FD8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87F1A-5DBB-4197-9A7C-0DE1F7CA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945EC-9233-423B-BBC5-4EC8FA13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752F6-0E5D-4913-999A-A8D9CCDB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F3D39-1A60-4B8F-8C63-A0AE4F10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607BE-C4C4-40C5-B564-D5979E92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E258D-335C-440C-AAA2-853908A3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3EF6-E067-4355-985D-9633C9C2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F713C-55C0-4BE8-83D0-792A14CA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CA90D-685A-4F5D-8FC4-B6F37F7D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33A1C-4D6D-4679-BA6F-60021A3E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E7207-B4BC-4CCB-879E-C38D2003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E3D78-D9FA-4F6D-8C33-B144BC9F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172A8-582C-42F2-BE37-4C5FCE3E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DA6453-9830-4CEE-8F81-B3509ED4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D598D-A357-427E-957B-0D1123BC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D13A7-C755-429B-8854-51FE84C5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C0FA4-007B-4220-99CF-7FB0DD50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54E7-BD12-4D25-8DCA-783EDAC3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80642-B3C5-4C27-9ECB-00E70BF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AAF83-997E-4DCC-AF44-D897D1626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586A04-8F53-4730-9375-1FC0F958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CB6E4-7B1E-4C9F-9D43-7E0C9D71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A1644-8E54-4C59-8B8C-A38DAFE4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EB45B-AAE7-4974-A67E-DC41ED96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AA0BD-478E-41CD-90C5-DCEE14D2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EDFB37-0916-4E57-BD50-747B37BC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AC73D2-7642-4197-8CF1-FFAC7851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25EC7-4A7E-4072-9A0E-46B23EE1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B89-55BA-4890-BFF8-5DC33032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2C00-87F3-4C61-A58A-586F4AC8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6449A-A1BC-4455-B4FD-60BF42B8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2CF854-8B0D-4EA5-BFCD-EAFBEC4A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EFEEC-56CC-49BD-8F7F-208ABAB5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0CA650-0116-43B3-8DB0-55B5047C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A8D1A-F4E7-4739-9518-BA0B126E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4C813-6817-4FF5-98F5-1B8ED43D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6CEF4-9A25-4DF8-985F-D9B53882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2C887-1910-44DD-9985-B21466BB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BDF49-4C02-41A6-B0C4-56ACC779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1EA68-D6CB-444C-B8F5-2C58A838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7754-E848-4B7E-AB3F-62AB12C7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C3CE4-9AD7-44EE-AE97-99A4AF14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FE9B4-C195-4BD2-BB22-FB02EE4B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3445F-087B-4A6F-B9A6-70E3D36C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DDAA5-1FD6-4C07-BE77-2C571212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8F45A-2EF9-4022-8F80-6A4B6DF6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622CA-7C2E-4158-967B-40E70EC4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BBFBB-FDEB-4E81-AE9A-ABF34596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A81AB-E33F-419C-95C3-FE26FFC8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D9CD7-3108-4004-A2D4-305B4F5D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15438-CBCF-48ED-9693-DE3DEA72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20B1-BC2B-470A-BA6E-29EE1E0D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764BAE-ED0D-4D4C-BA82-CA000FE4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FD570-A783-44C1-8D49-4F615433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00BB35-16CC-40BC-B63D-49851294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C34F5-1794-4876-B494-551B7515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E5C730-781A-42EC-9D6E-11733616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1E43E4-B827-45B9-809D-B50C3C0E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2801B-8B4F-47A6-91D6-4367903A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152B42-19EE-45EC-9B6C-46438A73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47B29-9952-45CA-9593-3A8AA461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514737-9EE9-4C1D-9B60-08C18D31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1672-C9EE-43F9-B718-DBC8FB92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5555C-EF99-4371-89A1-93575F20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0A55FC-8B3A-458D-B3A2-9F040723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8C2B4C-E669-4B5E-ACD6-6B8568B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B9E158-BF37-456D-AC20-A4F6C594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44A885-97E5-471F-B7CB-096792CC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A16227-9D47-4A15-9413-C9684F63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3CB85F-A678-491A-A972-5906C3C5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09CF5-90FD-4EB9-821A-491F03B2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41832-8297-4CA3-A574-C680DCDF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B3D175-2F89-4D90-B863-12FBBAE1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F03C-8180-42F9-B82B-C57C91FB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D77F43-50C2-4454-A7FE-71A48CD4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E2EE5D-3204-4DBB-BE83-9CEA6B9B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BD092E-E4FF-42C1-9DB1-8E2961B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100269-1141-4834-9D5A-A2520646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C04C6-221F-41B1-86A5-7D761A55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FC7A3-3958-49AF-B89F-D8C42484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8448C5-72F5-4996-A9BB-FF36C316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D08F2E-BB72-4EDF-8BF6-33BFF45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1FB8F6-A86F-417C-A500-9E3150DD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66BE0-856A-4DD4-A5FB-36960DA4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07DC-C60C-4C8B-BF2D-C971209E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F5466-9A7B-45B5-99BA-724DD658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A49CB4-65C4-4D51-BE89-325FE317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F4CEE0-9B8D-45F2-9C3E-A46FD162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D7621-1FC9-4280-B069-0AB82F32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4D98-C37F-4864-B578-F58F09DE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BC5F-7F40-4F3B-95F2-1DB565F0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698A-B6CB-4E63-8C00-F853E34D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D1A-E037-4EE3-A81E-FE19B28B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CDD9B-6B6E-4509-A448-D959A145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91FD-5C1C-458E-8D40-30CE5D9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767A-4A5F-4978-A7D6-621E86A1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BE7F-73B2-47F6-8C8E-C28600C3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958C5-CE36-44E0-8346-FAF2930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2149-569D-46AF-BCDE-16ED4625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D9C3-1DAA-457A-B526-C6283918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1B6E3-92B7-497C-9173-AAE204E6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6A5B-D796-49E3-AB75-BC74D5E9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15A5-ADA4-49B1-9774-F2F729F2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4F8-D95F-464E-81AF-76572180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3AFE-66EB-4FA6-B4D6-1592384E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17BD-601C-4094-AB20-5A827F8F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BAD3-3610-4245-8235-381E907C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43CA-1F59-4DB9-B281-8CA4D5FD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F894F-8E51-4B44-BCD3-FE33638E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5036F-2D2E-40DF-93B7-7AB8022C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8EA6-34D7-46FD-8218-46FC1A42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510F6-7C1D-4771-BB0C-A3D22BCF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DD650-37D7-48A8-8A91-932C47EF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A0EB-D218-4808-98D2-A7E5E7FF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CC6-9EF6-484D-9474-ABA3FD5F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ACD2E-E1BF-4BC5-9363-F7AD063F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67551-FFE6-4486-8DAF-8D463808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C30ED-4546-4827-9D1D-C7D4DBB6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7B6E8-BFD5-40EF-97B5-17C50F7C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C720C-EBB5-40CB-8E77-B66DEF72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57BF3-3CCC-4E00-87B2-B2097C60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098AB-8BBC-4227-B1A9-8B948D6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CE23C-7DF5-4561-86DB-F67A15D5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E2810-A3BB-4381-80E9-8ABA3D53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E7521-99BF-4720-8C37-9452322D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E3E-F385-4C27-909C-01EE3E9C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1C8F6-7DF3-47F0-8402-34A98610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70EC7-EF5E-49BF-8BBE-0E795FC4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28460-7267-4F07-BBC5-A01B1C56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1839D-9FBB-44DF-8409-320D8666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5DC9F-A70D-4F24-A0A4-8AA11E2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751A7-D03D-4CC9-BB16-1ECD95DD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9759E-EE91-4855-8323-EB4FDFCA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850AA-0107-4AEE-AD5D-6532AD55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719F8-3730-42AB-A57D-6988CE3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E8E10-0467-44C6-BE9D-D709C9D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27D-D7F7-4F77-9C03-C15C618C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3C0AD-5132-4AF3-9FA6-8C032A63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A5B7-0364-4C3D-BB9C-9DC765DB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FC0E1-83A5-4D7D-9913-C294BDFB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606E5-B7A2-4181-9AD8-50D970D6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8BC96-D3B1-48E1-895D-7721DC11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35F7F-3544-4022-A785-B5A610F3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A9108-459D-410A-9C6F-2610266B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D178C-3283-47D5-B4C6-19C5A5DA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1921A-5481-402F-A2F4-7205B0DE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40F2B-928D-4095-BDC9-A0B1EB1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5CB-6793-4E95-83C5-454B37EF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F9FFE-BA95-4EA3-8D93-66B897EF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17AED-6BD1-4A5E-ABAD-3C6A9E6D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25D2D-5BC4-4D68-93D4-93D37534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F95ED-3CDF-465A-B896-70D7622F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3D127-5F94-4448-8CD0-D518DC75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7FD2-037B-41CE-ADFE-8D64B086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94D27-8B30-4CD3-B1D7-C0A14A18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5F24A-7BEA-4AAB-88A6-943D5F2D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00667-A3A5-4DA3-A9A4-42448D8D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65F3B-FCAE-4182-9D5D-692559E3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372-A542-43E0-9F2A-3EE64ECC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7F07-92D5-4314-996E-64154047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5F28E-E4C3-41BD-9F43-A668616E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E50DA-66A7-4E8A-B76F-831D746E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8981D-A53D-462F-A769-88A6CD9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5E8AC-0B87-48BE-8C84-54448D15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8CE93-7333-42B8-ADD4-C81B975B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7CBDF-7276-4DF7-8DAA-B521FC62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D4C47-DC5C-4FF5-A03E-DEFEB5D9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66393-1B32-45D7-BF6C-0D90F5A2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F74F4-D351-4615-B488-FE12EA31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2EA9-40C2-4110-8169-F76ED133C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5380-68E4-4D8E-AC38-AD0C859210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9E02-122F-45D0-8288-82583E9538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CB85-41AB-4588-BA96-3D20F4DEB3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886C-A5EF-4F08-B7D9-B5F9CC8BFC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FEAD-0BC4-4BF7-A2B4-26027D7245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C23D-401E-42F7-B919-18B1E24665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F53A-68B3-4439-8AB5-230FDB5366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A101-40B5-42EA-8710-FD4FF5E1FB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08B5-8871-47E5-9049-6A98B1531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C511-620E-4425-93F3-341ECF420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3732-B294-432E-9D17-251D319F9C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492C-DE08-4D3A-B3F7-33BAE5B30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8257-AF30-4BA4-85A6-D2EEE180E7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EDE6-5CF8-4419-B8CF-9F3461ECB0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DBE3-412B-4E86-A862-E8963F72B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FB6A-53BD-47AC-A501-DD6DCE9231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047F-057C-485E-BEB6-42BB02CC14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1329-65C7-429C-8C52-17192DA506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A0C-A5B7-41C2-88B2-73E0A0F5F1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0E2B-8FC5-4B97-A818-3D44E27919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7B6C-7465-45B4-A243-C11660E15B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1473-D0DB-41C8-B5B7-76D909F6D6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496-C722-4957-8153-57EBCE306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7BEA-7E47-4467-ABA1-224B21DDBF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CD2-A96E-4F53-96CB-DF22D39856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30B5-98F2-4981-8B9A-60AB7101B0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40E8-BBA9-44D2-819B-248446071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EBA5-0E2D-4546-AF1D-AB8FE1FB6A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1830-DDB2-4238-B8DE-BDC754D46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CF03-F2AF-422D-BA17-1FB39A7794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1FF9-6325-4E2A-AA22-A2834D2C5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120-2A09-4B5E-94B4-673B77C24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AF4D-7690-40B7-9AA4-69EDA9FB28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9B15-FD87-4338-99C6-73B54DED43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B7ED-361E-4464-B619-A79728764A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8F95-94C7-4E24-9950-A52FC22477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CD7F-C00E-447F-88F0-C0B44CDE5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0636-6EBC-402E-ADF9-F842D0C4B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1AC2-0C07-4E10-9952-579F101B61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738440" y="3029040"/>
            <a:ext cx="566712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318960" y="1241280"/>
            <a:ext cx="8506080" cy="4924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900000" y="16081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900000" y="19828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900000" y="2343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900000" y="26305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900000" y="29908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1116000" y="5291280"/>
            <a:ext cx="287280" cy="293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2833560" y="5291280"/>
            <a:ext cx="287640" cy="293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4500720" y="5291280"/>
            <a:ext cx="287280" cy="293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6188040" y="53006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7894800" y="5291280"/>
            <a:ext cx="28728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23760" y="2128680"/>
            <a:ext cx="9096480" cy="26006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900000" y="35002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2484360" y="35002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5"/>
          <a:stretch/>
        </p:blipFill>
        <p:spPr>
          <a:xfrm>
            <a:off x="5724360" y="3500280"/>
            <a:ext cx="28764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6"/>
          <a:stretch/>
        </p:blipFill>
        <p:spPr>
          <a:xfrm>
            <a:off x="7308720" y="3500280"/>
            <a:ext cx="2876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95400" y="1382760"/>
            <a:ext cx="8953200" cy="46386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tretch/>
        </p:blipFill>
        <p:spPr>
          <a:xfrm>
            <a:off x="693720" y="17524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684360" y="241452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684360" y="3135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5"/>
          <a:stretch/>
        </p:blipFill>
        <p:spPr>
          <a:xfrm>
            <a:off x="684360" y="37828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6"/>
          <a:stretch/>
        </p:blipFill>
        <p:spPr>
          <a:xfrm>
            <a:off x="684360" y="445140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2:05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